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4D76-6162-42F8-B4FC-D557A388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A4B3-BAAD-4306-A2F1-2AFE26A3C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A2A0-97C3-4B70-92FE-3D3291388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B2DE-2490-48AC-98E4-B4FAD97AF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6864-8574-47C6-BD7A-1900D306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FED-E6D6-4226-A1EE-48CF3ACE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8D6-7682-48E5-9DDA-417B59C8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112C-743C-4560-A9DF-B5C1C31B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633-42B3-462A-98BA-7C439DECC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736-E671-47E1-BFA6-EE57B869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CA0-C094-4848-84C5-706C7462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0C6-21DF-4ECE-B190-3B5EEA9D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0FD2-7F53-410E-AB36-082222BBA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00"/>
                </a:solidFill>
                <a:latin typeface="Impact"/>
              </a:rPr>
              <a:t>Question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7720" y="2209320"/>
            <a:ext cx="76964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Impact"/>
              </a:rPr>
              <a:t>The anthropologist was accused of committing a _____ when she disturbed an ancient burial gr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Impac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Impact"/>
              </a:rPr>
              <a:t>Talis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Impac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Impact"/>
              </a:rPr>
              <a:t>Sacrileg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Impact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Impact"/>
              </a:rPr>
              <a:t>propr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971800" y="441972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Forte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Forte"/>
              </a:rPr>
              <a:t>The new play’s _______ dialogue made it seem more like a soap opera than a serious d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Fort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Forte"/>
              </a:rPr>
              <a:t>Ba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Fort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Forte"/>
              </a:rPr>
              <a:t>Acquisitiv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Forte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cc"/>
                </a:solidFill>
                <a:latin typeface="Forte"/>
              </a:rPr>
              <a:t>Taci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71800" y="312408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ff"/>
                </a:solidFill>
                <a:latin typeface="Cooper Black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oper Black"/>
              </a:rPr>
              <a:t>The prospector was unable to _______ his claim to the land where the gold was f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Cooper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oper Black"/>
              </a:rPr>
              <a:t>Substant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Cooper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oper Black"/>
              </a:rPr>
              <a:t>Emu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Font typeface="Cooper Black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ff"/>
                </a:solidFill>
                <a:latin typeface="Cooper Black"/>
              </a:rPr>
              <a:t>Esc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327672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Gill Sans Ultra Bold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14400" y="19807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"/>
              </a:rPr>
              <a:t>The crowd did not _______ any signs of panic buy moved in an orderly fashion to the nearest ex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ill Sans Ultra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"/>
              </a:rPr>
              <a:t>Exh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ill Sans Ultra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"/>
              </a:rPr>
              <a:t>Dissemb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Gill Sans Ultra Bol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ill Sans Ultra Bold"/>
              </a:rPr>
              <a:t>Evi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419112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ff"/>
                </a:solidFill>
                <a:latin typeface="Showcard Gothic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600200"/>
            <a:ext cx="7696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Showcard Gothic"/>
              </a:rPr>
              <a:t>Most writers are also _____ readers who have loved books since childh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Showcard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Showcard Gothic"/>
              </a:rPr>
              <a:t>Dev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Showcard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Showcard Gothic"/>
              </a:rPr>
              <a:t>Avid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cc00ff"/>
              </a:buClr>
              <a:buFont typeface="Showcard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ff"/>
                </a:solidFill>
                <a:latin typeface="Showcard Gothic"/>
              </a:rPr>
              <a:t>Histri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71800" y="3733920"/>
            <a:ext cx="990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ff"/>
                </a:solidFill>
                <a:latin typeface="Arial"/>
              </a:rPr>
              <a:t>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Unit 1 (synonym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Cong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Invid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Large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Bela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Ten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Tempo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48320" y="1828800"/>
            <a:ext cx="3733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Munific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Justif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Harp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Coagul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H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te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1981080"/>
            <a:ext cx="2133720" cy="2362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2514600"/>
            <a:ext cx="1981080" cy="3276720"/>
          </a:xfrm>
          <a:prstGeom prst="line">
            <a:avLst/>
          </a:prstGeom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666880" y="2209680"/>
            <a:ext cx="1981440" cy="9144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286000" y="3581280"/>
            <a:ext cx="2362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362320" y="2971800"/>
            <a:ext cx="2286000" cy="12952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4876920"/>
            <a:ext cx="1676520" cy="22860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Unit 2 (antonym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327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Halyc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Incend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Cele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Animad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Propr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O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1828800"/>
            <a:ext cx="41148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Sluggish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Inappropria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Compl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Turbu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othing; peace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14600" y="1981080"/>
            <a:ext cx="2133720" cy="2362320"/>
          </a:xfrm>
          <a:prstGeom prst="line">
            <a:avLst/>
          </a:prstGeom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2514600"/>
            <a:ext cx="1981080" cy="327672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133720" y="2209680"/>
            <a:ext cx="2514600" cy="990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352680" y="3581280"/>
            <a:ext cx="1295640" cy="76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286000" y="3123720"/>
            <a:ext cx="2286000" cy="129564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81080" y="4876920"/>
            <a:ext cx="2590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ching Unit 3 (synonym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Mur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Piqu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Verd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Utopi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Dec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Distrau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48320" y="1828800"/>
            <a:ext cx="37335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Denou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Un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Fran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Zest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Idealis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62320" y="2514600"/>
            <a:ext cx="2286000" cy="182880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3124080"/>
            <a:ext cx="2133720" cy="266724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133720" y="2209320"/>
            <a:ext cx="2514600" cy="2133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657600"/>
            <a:ext cx="22860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0" y="2057400"/>
            <a:ext cx="2362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895480" y="3580920"/>
            <a:ext cx="1752840" cy="1295640"/>
          </a:xfrm>
          <a:prstGeom prst="line">
            <a:avLst/>
          </a:prstGeom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7:15:17Z</dcterms:created>
  <dc:creator>User</dc:creator>
  <dc:description/>
  <dc:language>en-US</dc:language>
  <cp:lastModifiedBy>User</cp:lastModifiedBy>
  <dcterms:modified xsi:type="dcterms:W3CDTF">2006-10-10T17:20:27Z</dcterms:modified>
  <cp:revision>4</cp:revision>
  <dc:subject/>
  <dc:title>Question 1</dc:title>
</cp:coreProperties>
</file>